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EE0-2002-4FDA-A0E4-9FF884D4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3FE-F2B4-4D6D-8D1C-58BC8E8D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B6E-0424-4F6E-94B0-2BC44279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6D1-A855-4CFF-847E-56B49E6A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334-AF61-497F-A52B-C2ABE048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333-B70E-4991-BDFB-BE014A4A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00A-357F-491C-A8A1-C608E792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B29-7673-4E11-8D93-F43AF4D7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EB1-E6EB-472F-8EDB-0B88C5AE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A27-190D-470C-BC5D-E2EA08A5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FAF-65A0-487A-8B3D-CA42134B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EFE-1AA3-4FDF-849A-EB423820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B3C-37AB-453B-AA60-99D4C5436F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42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43" name="1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11667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1143000"/>
            <a:ext cx="335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可愛い花嫁さん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ＬＩＲＴＹ　ＢＩＲＤＹ／１９４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（劇場公開時：イカレ鳥の巻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オペラ騒動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ＴＨＥ ＣＡＴ ＡＢＯＶＥ ＡＮＤ ＴＨＥ ＭＯＵＳＥ　　　　ＢＥＬＯＷ／１９６４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　（劇場公開時：トムとジェリーの負けてたまるか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ジェリーの日記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’Ｓ　ＤＩＡＲＹ／１９４９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忠犬ブル公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Ｓ　ＭＥ－ＯＵＣＨ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パパの教育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ＡＴ’Ｓ　ＭＹ　ＰＵＰ／１９５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（劇場公開時：ブルの父ちゃ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果てしなき決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ＵＥＬ　ＰＥＲＳＯＮＡＬＩＴＹ／ １９６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未来戦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ＧＵＩＤＥＤ　ＭＯＵＳＥ－ＩＬＬＥ／１９６７年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おかしなあひるの子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ＵＳＴ　ＤＵＣＫＹ／１９５３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魔術師ネズ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ＨＡＵＮＴＥＤ　ＭＯＵＳＥ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ナポリよいと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ＮＥＯＰＯＬＩＴＡＮ　ＭＯＵＳＥ／１９５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（劇場公開時：ナポリの豪傑ねずみ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象さんはジェリーの味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－ＧＯ－ＲＯＵＮＤ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なかよし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ＫＩＴＴＹ　ＦＯＩＬＥＤ／１９４８年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ジェリーの親友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ＵＣＨ　ＡＤＯ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ＡＢＯＵＴ　ＭＯＵＳＩＮＧ／１９６４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ブルの用心棒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お好みサン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ＥＮＴＨＯＵＳＥ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ＭＯＵＳＥ／１９６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トムとジェリーの危機一髪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548640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つかまるのはごめ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（ＤＵＭＢ　ＨＯＵＮＤＥＤ／１９４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066680"/>
            <a:ext cx="32763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西部の伊達ねず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ＥＸＡＳ　ＴＯＭ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西部の猫と鼠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水兵さんも楽じゃ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ＳＳ’Ｎ’　ＢＯＡＴ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素敵なマ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ＡＴ’Ｓ　ＭＹ　ＭＯＭＭ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ダンスは楽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ＯＷＮＢＥＡＴ　ＢＥＡＲ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サーフィンに挑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ＵＲＦ－ＢＯＲＥＤ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可愛い子猫と思った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ＲＩＰＬＥＴ　ＴＲＯＵＢＬ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気楽に行こうよ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ＵＣＨＯ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トム君空を飛ぶ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ＦＬＹＩＮＧ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命の恩人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ＢＯＤＹＧＵＡＲ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台所戦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ＬＥＴＴＬＥ　ＯＲＰＨＡＮ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（劇場公開時：食いしん坊の子鼠）※アカデミー受賞作品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ごきげんないとこ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’Ｓ　ＣＯＵＳＩＮ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チュー太武勇伝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あべこべ物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Ｒ．ＪＥＫＹＬＬ　ＡＮＤ　ＭＲ．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氷あそび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ＩＣＥ　ＦＯＬＬＩＥ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ねずみのアイスショウ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海の底すばらし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ＣＡＴ　ＡＮＤ　ＭＥＲ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5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ピアノ・コンサート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ＣＡＴ　ＣＯＮＣＥＲＴ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猫の演奏会）※アカデミー受賞作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" descr=""/>
          <p:cNvPicPr/>
          <p:nvPr/>
        </p:nvPicPr>
        <p:blipFill>
          <a:blip r:embed="rId4"/>
          <a:stretch/>
        </p:blipFill>
        <p:spPr>
          <a:xfrm>
            <a:off x="7980480" y="838080"/>
            <a:ext cx="1285920" cy="175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67280" y="541008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迷探偵ドルーピー西部の早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ＷＩＬＤ＆ＷＯＯＬＦＹ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50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961920"/>
            <a:ext cx="3581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１．ネズミとり必勝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ＴＲＯＵＢＬＥ／１９４４年）（劇場公開　　　　　　　　　　時：ねずみ取り虎の巻） ※アカデミー受賞作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逃げ出したライオ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　ＡＮＤ　ＴＨＥ　ＬＩＯＮ／１９５０年）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ジェリー街へ行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ＩＮ　ＭＡＮＨＡＴＴＡＮ／１９４５年）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捨てネズ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ＩＬＫＹ　ＷＡＩＦ／１９４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ふんだりけったり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　ＮＡＰＰＩＮＧ／１９５１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土曜の夜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ＡＴＵＲＤＡＹ　ＥＶＥＮＩＮＧ　ＰＵＳＳ／１９５０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止まらないシャックリ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ＩＣ－ＣＵＰ　ＰＵＰ／１９５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透明ネズミ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ＩＮＶＩＳＩＢＬＥ　ＭＯＵＳＥ／１９４７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透明ネズミの巻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夢と消えた百万ド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ＩＬＬＩＯＮ　ＤＯＬＬＡＲ　ＣＡＴ／１９４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メリー・クリスマ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ＮＩＧＨＴ　ＢＥＦＯＲＥ　ＣＨＲＩＳＴＭＡＳ／１９４１年）　　（劇場公開時：トムとジェリーのクリスマスイブ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ウソをついた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ＯＬＫＡ－ＤＯＴ　ＰＵＳＳ／１９４９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インディアンごっこ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ＷＯ　ＬＩＴＴＬＥ　ＩＮＤＩＡＮＳ／１９５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仲間割れ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ＲＡＰ　ＨＡＰＰＹ／１９４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星空の音楽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Ｍ　ＡＮＤ　ＪＥＲＲＹ　ＩＮ　ＴＨＥ　ＨＯＬＬＹＷＯＯ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ＢＯＷＬ／１９５０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5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玉つきゲームは楽しいね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ＵＥ　ＢＡＬＬ　ＣＡＴ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１９５０年）（劇場公開時：猫の玉つき王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6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可愛い逃亡者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ＴＴＬＥ　ＲＵＮＡＷＡＹ／１９５２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111096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54864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アラスカの拳銃使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ＨＯＯＴＩＮＧ　ＯＦ　ＤＡＮ　ＭＣＧＯＯ／１９４５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38680" y="914400"/>
            <a:ext cx="3403800" cy="4510080"/>
            <a:chOff x="5638680" y="914400"/>
            <a:chExt cx="3403800" cy="4510080"/>
          </a:xfrm>
        </p:grpSpPr>
        <p:sp>
          <p:nvSpPr>
            <p:cNvPr id="55" name=""/>
            <p:cNvSpPr/>
            <p:nvPr/>
          </p:nvSpPr>
          <p:spPr>
            <a:xfrm>
              <a:off x="5732640" y="914400"/>
              <a:ext cx="330984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１．お化け騒動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ＦＲＡＩＤＹ　ＣＡＴ／１９４２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２．腹ぺこブッチ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ＢＡＢＹ　ＢＵＴＣＨ／１９５４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３．ワルツの王様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ＪＯＨＡＮＮ　ＭＯＵＳＥ／１９５３年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（劇場公開時：猫の宮廷音楽会）※アカデミー受賞作品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４．いそうろう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ＰＥＴ　ＰＥＥＶＥ／１９５４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５．００１／７チーズに愛をこめて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ＭＯＵＳＥ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ＦＲＯＭ　Ｈ．Ｕ．Ｎ．Ｇ．Ｅ．Ｒ．／１９６７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６．お家はバラバラ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ＤＯＧ　ＨＯＵＳＥ／１９５２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７．赤ちゃんはいいな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ＢＡＢＹ　ＰＵＳＳ／１９４３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８．素敵なおさがり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ＺＯＯＴ　ＣＡＴ／１９４４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９．上には上があ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ＰＵＳＳ　ＧＥＴＳ　ＴＨＥ　ＢＯＯＴ／１９４０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0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夜中のつまみ食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ＭＩＤＮＩＧＨＴ　ＳＮＡＣＫ／１９４１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1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共同作戦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ＤＯＧ　ＴＲＯＵＢＬＥ／１９４２年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（劇場公開時：トムとジェリーの危機一髪！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2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バラ色の人生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ＰＵＳＳ’Ｎ　ＴＯＯＴＳ／１９４２年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　（劇場公開時：トムのプロポーズ大作戦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3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楽しいボーリング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ＢＯＷＬＩＮＧ　ＡＬＬＥＹ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ＣＡＴ／１９４２年）（劇場公開時：トムとジェリーの大行進／ボーリングの巻／トムとジェリーの逆転ストライク＜再＞）　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4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ジェリー博士の超能力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ＩＳ　ＴＨＥＲＥ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Ａ　ＤＯＣＴＯＲ　ＩＮ　ＴＨＥ　ＭＯＵＳＥ？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１９６４年）（劇場公開時：トムとジェリー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危機一髪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5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勝利は我に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ＹＡＮＫＥＥ　ＤＯＯＤＬＥ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ＭＯＵＳＥ／１９４３年）（劇場公開時：トムと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ジェリーの大行進／星条旗よ永遠にの巻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※アカデミー受賞作品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8680" y="24620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4" descr=""/>
          <p:cNvPicPr/>
          <p:nvPr/>
        </p:nvPicPr>
        <p:blipFill>
          <a:blip r:embed="rId4"/>
          <a:stretch/>
        </p:blipFill>
        <p:spPr>
          <a:xfrm>
            <a:off x="8305920" y="4267080"/>
            <a:ext cx="1295280" cy="177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5410080"/>
            <a:ext cx="2361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迷探偵ドルーピーの９大追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ＮＯＲＴＨＷＥＳＴ　ＨＯＵＮＤＥ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ＰＯＬＩＣＥ／１９５３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60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914400"/>
            <a:ext cx="3276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にわとりのおばさ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ＩＮＥ　ＦＥＡＴＨＥＲＥＤ　ＦＲＩＥＮＤ／１９４２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悪魔のささやき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ＵＲＦＦＥＲＩＮ’　ＣＡＴＳ／１９４３年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冬の夜ばなし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ＮＯＷＢＯＤＹ　ＬＯＶＥＳ　ＭＥ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１９６４年）（劇場公開時：零下３０度）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淋しがり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ＬＯＮＥＳＯＭＥ　ＭＯＵＳＥ／１９４３年）　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ジェリーと子猫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ＵＮＳＨＲＩＮＫＡＢＬＥ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ＪＥＲＲＹ　ＭＯＵＳＥ／１９６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猫はやっぱり猫でし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ＴＴＩＮ’　ＯＮ　ＴＨＥ　ＤＯＧ／１９４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トムのガールフレンド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ＯＵＳＥ　ＣＯＭＥＳ　ＴＯ　ＤＩＮＮＥＲ／１９４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目茶苦茶ゴルフ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ＥＥ　ＦＯＲ　ＴＷＯ／１９４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ゴルフの巻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春はいたずらも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ＰＲＩＮＧＴＩＭＥ　ＦＯＲ　ＴＨＯＭＡＳ／１９４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追いつ追われつ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ＡＨ，ＳＷＥＥＴ　ＭＯＵＳＥ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ＳＴＯＲＹ　ＯＦ　ＬＩＦＥ／１９６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恋ははかなく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ＯＬＩＤ　ＳＥＲＥＮＡＤＥ／１９４６年）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逃げろや逃げ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Ｍ－ＩＣ　ＥＮＥＲＧＹ／１９６５年）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へんな魚つ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　ＦＩＳＨＩＮ’／１９４７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ただいまお昼寝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ＱＵＥＩＴ　ＰＬＥＡＳＥ／１９４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（劇場公開時：暴れ子ねずみ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※アカデミー受賞作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5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1258920" cy="172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5120" y="5334120"/>
            <a:ext cx="228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チャンピオン誕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ＥＮＯＲ　ＤＲＯＯＰＹ／１９４９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066680"/>
            <a:ext cx="34290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トラになったト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ＡＲＴ－ＴＩＭＥ　ＰＡＬ／１９４７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海のバカン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ＡＬＴ　ＷＡＴＥＲ　ＴＡＢＢＹ／１９４７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まるでツイてない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ＢＡＤ　ＤＡＹ　ＡＴ　ＣＡＴ　ＲＯＣＫ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こわいお手伝いさ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Ａ　ＭＯＵＳＥ　ＩＮ　ＴＨＥ　ＨＯＵＳＥ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１９４７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とんだ災難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ＢＲＯＴＨＥＲＳ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　ＣＡＲＲＹ－ＭＯＵＳＥ－ＯＦＦ／１９６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強敵あらわ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ＬＤ　ＲＯＣＫＩＮ’　ＣＨＡＩＲ　ＴＯＭ／１９４８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仲良し同盟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ＴＲＵＣＥ　ＨＵＲＴＳ／１９４８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やんちゃな生徒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ＲＯＦＥＳＳＯＲ　ＴＯＭ／１９４８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お掃除はこうするの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ＣＬＥＡＮＩＮＧ／１９４８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油断大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Ｉ’Ｍ　ＪＵＳＴ　ＷＩＬＤ　ＡＢＯＵＴ　ＪＥＲＲＹ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いたずらきつつ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ＡＴＣＨ　ＵＰ　ＹＯＵＲ　ＴＲＯＵＢＬＥＳ／１９４９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ジェリーの仕返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Ｆ　ＦＥＬＩＮＥ　ＢＯＮＤＡＧＥ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ここまでおいで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ＯＶＥ　ＴＨＡＴ　ＰＵＰ／１９４９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天国と地獄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ＥＡＶＥＮＬＹ　ＰＵＳＳ／１９４９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6" descr=""/>
          <p:cNvPicPr/>
          <p:nvPr/>
        </p:nvPicPr>
        <p:blipFill>
          <a:blip r:embed="rId4"/>
          <a:stretch/>
        </p:blipFill>
        <p:spPr>
          <a:xfrm>
            <a:off x="8305920" y="838080"/>
            <a:ext cx="1176120" cy="1623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05720" y="51814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いかさま狐狩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ＵＴ－ＦＯＸＥＤ／１９４９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68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69" name="7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1228680" cy="167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11430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テニスなんて楽だ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ＴＥＮＮＩＳ　ＣＨＵＭＰ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猫の猛テニス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母をたずね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ＴＴＬＥ　ＱＵＡＣＫＥＲ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ホラ吹きニャン公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ジェリーのいたずら作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ＹＥＡＲ　ＯＦ　ＴＨＥ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花火はすごいぞ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ＡＦＥＴＹ　ＳＥＣＯＮＤ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ジェリーの夢遊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，ＪＥＲＲＹ，ＱＵＩＥＴ　ＣＯＮＴＲＡＲＹ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復讐もほどほどに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ＦＲＡＭＥＤ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計算ちが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ＳＡＮＯＶＡ　ＣＡＴ）（劇場公開時：浮かれ猫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ジェリーと金魚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　ＡＮＤ　ＴＨＥ　ＧＯＬＤＦＩＳＨ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トムさんと悪友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ＬＥＥＰＹ－ＴＩＭＥ　ＴＯ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プレゼント騒動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ＯＶＥ　ＭＥ，ＬＯＶＥ　ＭＹ　ＭＯＵＳＥ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南の島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ＩＳ　ＭＯＵＳＥ　ＦＲＩＤＡ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銀世界の追跡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Ａ－ＴＯＭ－ＩＮＡＢＬＥ　ＳＮＯＷＭＡＮ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ショックで直せ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ＮＩＴ－ＷＩＴＴＹ　ＫＩＴＴ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おしゃべり子ガモ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ＤＵＣＫ　ＤＯＣＴＯＲ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0292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スポーツの王様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（ＤＵＭＢ　ＨＯＵＮＤＥＤ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1219320"/>
            <a:ext cx="394956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ブルおじさん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ＩＴ　ＴＯ　ＢＥ　ＴＩＥ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人造ネコ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ＳＨ－ＢＵＴＴＯＮ　ＫＩＴＴ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カワイコ金魚ちゃん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ＩＬＥＴ　ＭＥＯＷ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夢と消えたバカンス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ＲＵＩＳＥ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１＋１は敵の数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ＴＹ－ＣＯＲＮＥＲ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パーティ荒し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ＴＷＯ　ＭＯＵＳＥＫＥＴＥＥＲ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（劇場公開時：鼠の二銃士）※アカデミー賞受賞作品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ネズミの学校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ＴＴＬＥ　ＳＣＨＯＯＬ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ジェリーとジャンボ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　ＡＮＤ　ＪＵＭＢＯ）　（劇場公開時：脱線小象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恋のとりこ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ＭＩＴＴＥＮ　ＫＩＴＴＥＮ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サンタルチアの夜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　ＡＮＤ　ＤＵＰＬＩ－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トム氏の優雅な生活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ＦＥ　ＷＩＴＨ　ＴＯ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トムとジェリーウォーズ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－ＳＯＬＡＲ－ＭＥＯＷ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うらぎり者は去れ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ＯＳＳＥ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恐怖の白ネズミ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ＩＳＳＩＮＧ　ＭＯＵＳＥ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8" descr=""/>
          <p:cNvPicPr/>
          <p:nvPr/>
        </p:nvPicPr>
        <p:blipFill>
          <a:blip r:embed="rId4"/>
          <a:stretch/>
        </p:blipFill>
        <p:spPr>
          <a:xfrm>
            <a:off x="8001000" y="3962520"/>
            <a:ext cx="1406520" cy="1928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9920" y="502920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デキシーランド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（ＤＩＸＩＥＬＡＮＤ　ＤＲＯＯＰＹ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76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77" name="9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1425600" cy="1954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14400" y="1066680"/>
            <a:ext cx="3276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オーバーな奴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ＯＷＮＨＥＡＲＴＥＤ　ＤＵＣＫＬＩＮＧ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武士道はつら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ＵＣＨＥ，ＰＵＳＳＹ　ＣＡＴ！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剣豪ジェリー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ロックンロール騒動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ＲＯＣＫ’Ｎ’　ＲＯＤＥＮ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南へ行こう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ＯＵＴＨＢＯＵＮＤ　ＤＵＣＫＬＩＮＧ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ジョーズの追跡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ＮＮＥＲＹ　ＲＯＤＥＮ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ブルさんのピクニッ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Ｐ　ＯＮ　Ａ　ＰＩＣＮＩＣ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わんちゃんのピクニック）　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親切なトム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ＰＰＹ　ＴＡＬ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白ねずみは人気者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ＦＯＲ　ＳＡＬ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失敗は成功のもと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ＥＳＩＧＮＳ　ＯＮ　ＪＥＲＲ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武士道修行も楽じゃな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Ｍ　ＡＮＤ　ＣＨＥＲＩＥ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ジェリーの迷剣士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アベコベ時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ＡＤＶＡＮＣＥ　ＡＮＤ　ＢＥ　ＭＥＣＨＡＮＩＺＥ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映画大会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ＭＡＲＴＹ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ひげも使いよう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ＥＣＯＳ　ＰＥＳＴ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4648320"/>
            <a:ext cx="204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ドルーピー君　サーカスへ行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ＡＲＥＤＥＶＩＬ　ＤＲＯＯＰＹ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10" descr=""/>
          <p:cNvPicPr/>
          <p:nvPr/>
        </p:nvPicPr>
        <p:blipFill>
          <a:blip r:embed="rId4"/>
          <a:stretch/>
        </p:blipFill>
        <p:spPr>
          <a:xfrm>
            <a:off x="8118360" y="930240"/>
            <a:ext cx="1433520" cy="196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72240" y="1389240"/>
            <a:ext cx="3276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楽しい浜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ＵＳＣＬＥ　ＢＥＡＣＨ　ＴＯ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悲しい悲しい物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ＢＬＵＥ　ＣＡＴ　ＢＬＵＥ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バーベキュー戦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ＢＡＲＢＥＣＵＥ　ＢＲＡＷＬ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夢よもう一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ＲＲ－ＣＨＡＮＣＥ　ＴＯ　ＤＲＥＡ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なにがなんだかわから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ＩＭＩＤ　ＴＡＢＢ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おめでたいアヒ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ＡＰＰＹ　ＧＯ　ＤＵＣＫ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王様を起こさない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ＲＯＹＡＬ　ＣＡＴ　ＮＡＰ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忍者ネコだまし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ＶＡＮＩＳＨＩＮＧ　ＤＵＣＫ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仲直りはしたものの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ＡＴＩＮＥＥ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我こそ勇者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ＲＯＢＩＮ　ＨＯＯＤＷＩＮＫＥ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赤ちゃんは知らん顔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Ｔ　ＷＡＴＣＨＥＲ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空飛ぶほうき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ＦＬＹＩＮＧ　ＳＯＲＣＥＲＥＳ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45720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双児騒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ＲＯＯＰＹ’Ｓ　ＤＯＵＢＬＥ　ＴＲＯＵＢＬＥ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8:51:20Z</dcterms:created>
  <dc:creator>のみこ</dc:creator>
  <dc:description/>
  <dc:language>en-US</dc:language>
  <cp:lastModifiedBy>小林智</cp:lastModifiedBy>
  <dcterms:modified xsi:type="dcterms:W3CDTF">2003-02-22T07:15:34Z</dcterms:modified>
  <cp:revision>12</cp:revision>
  <dc:subject/>
  <dc:title>PowerPoint プレゼンテーション</dc:title>
</cp:coreProperties>
</file>